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7380B8-30CB-4D7A-AB3C-4AED9E4031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-D – completed much of AK, have done some work in CA, currently flying some Great Lakes coastl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see details on the GRAV-D web s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liest gravity data (AL) is available, and we plan to make it all avail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X geoid slope project is the first of probably 3-4 over the next several years.  Next one being considerered is east/west in Pacific N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6B036B-FA0D-427B-A9D0-09F9EE2D19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-D – completed much of AK, have done some work in CA, currently flying some Great Lakes coastl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see details on the GRAV-D web s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liest gravity data (AL) is available, and we plan to make it all avail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X geoid slope project is the first of probably 3-4 over the next several years.  Next one being considerered is east/west in Pacific N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4FC2A5-BDA9-4500-8737-9540797B62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: transformation – if it determined that the resources needed to build the transformation tool do not support the value/need, NGS will at least provide guidance on how to deal with this trans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1A8F28-48DC-4A07-88BB-1731A36516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12D6B53-5322-4034-B565-FBDF83BDC4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224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ade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1D71-1EE3-45D7-99BB-0D3DC9C1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3B86-0D35-469E-A7AA-D05576B6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46E3-80CD-4894-AC34-AE8E1E72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1A47-A12F-4670-8014-41B5B7675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3787-4BC4-4A3A-9E25-0979AC02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099B-4DE1-4B97-A1AB-ECD5F302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405E-F97E-4C7B-AFE2-4475240C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6FFE-AD4A-46C5-A06F-9F41FD92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8276-5B24-4B5D-9BBB-3075308F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9DD9-9285-4128-8F5E-826C100D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331E-3AC6-4D56-9618-FF905DA1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BB3F-69F9-49B2-A6D2-023136F2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C7DFCB-999B-4AFC-A2E3-A3CEE0FF2C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le 1"/>
          <p:cNvSpPr/>
          <p:nvPr/>
        </p:nvSpPr>
        <p:spPr>
          <a:xfrm>
            <a:off x="457200" y="998640"/>
            <a:ext cx="822960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GS a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Height Modernization Program Up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Content Placeholder 2"/>
          <p:cNvSpPr/>
          <p:nvPr/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RC Coordinating Council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Jolla, CA via webin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Content Placeholder 2"/>
          <p:cNvSpPr/>
          <p:nvPr/>
        </p:nvSpPr>
        <p:spPr>
          <a:xfrm>
            <a:off x="457200" y="1582560"/>
            <a:ext cx="822960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order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ieve Ten-year Plan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ieve National Height Modernization Program (NHMP)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tion to new geometric and geopotential datums        (c. 202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0" y="533520"/>
            <a:ext cx="9144000" cy="12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ontent Placeholder 2"/>
          <p:cNvSpPr/>
          <p:nvPr/>
        </p:nvSpPr>
        <p:spPr>
          <a:xfrm>
            <a:off x="217440" y="1582560"/>
            <a:ext cx="892656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: NHMP supported projects to enhance vertical component of NS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YCS – release of Multi-Year CORS Solu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A 2011 – adjust passive control for consistency with MY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EOID1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0" y="773280"/>
            <a:ext cx="9144000" cy="12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GS/NHMP Activiti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Content Placeholder 2"/>
          <p:cNvSpPr/>
          <p:nvPr/>
        </p:nvSpPr>
        <p:spPr>
          <a:xfrm>
            <a:off x="217440" y="1582560"/>
            <a:ext cx="892656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: NHMP supported projects to enhance vertical component of NS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AV-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eldwork and data processing to support a 1 cm geoid and the new geopotential datu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ilot Project in North Carolin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produce a new set of instructions for FEMA floodplain mapping based on access to the new datu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xas Geoid Slope Validation Surve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gaging a variety of testing methods to address achievable accuracy of a gravimetric geoid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ternational Great Lakes Datu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GLD) fieldwork and data processing completed to update the IGLD, benefitting US-Canada boundary reg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le 1"/>
          <p:cNvSpPr/>
          <p:nvPr/>
        </p:nvSpPr>
        <p:spPr>
          <a:xfrm>
            <a:off x="0" y="773280"/>
            <a:ext cx="9144000" cy="12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MP ACCOMPLISHMEN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ontent Placeholder 2"/>
          <p:cNvSpPr/>
          <p:nvPr/>
        </p:nvSpPr>
        <p:spPr>
          <a:xfrm>
            <a:off x="246240" y="1582560"/>
            <a:ext cx="8651520" cy="39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s and tools: NHMP supported many recent NGS products including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D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ment in partnership with Scripps and University of Alaska, Fairbanks – also working on vertical (e.h.) component- VTD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TD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ment including repeat surveys in Southern Louisiana and subsidence monitoring in Harris-Galveston Subsidence Distri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nsformation too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tween epochs after National Adjustment of 2011 – studying the need for i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itle 1"/>
          <p:cNvSpPr/>
          <p:nvPr/>
        </p:nvSpPr>
        <p:spPr>
          <a:xfrm>
            <a:off x="0" y="773280"/>
            <a:ext cx="9144000" cy="12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MP ACCOMPLISHMEN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Content Placeholder 2"/>
          <p:cNvSpPr/>
          <p:nvPr/>
        </p:nvSpPr>
        <p:spPr>
          <a:xfrm>
            <a:off x="619200" y="1582560"/>
            <a:ext cx="7975440" cy="39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ation: NHMP continue to support education and outreac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thly teleconferences, now with guest speaker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DAR workshop and Partner Meeting in August 201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SM / Survey Summit / ESRI User Conference in July 201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ing NGS HMP web si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0" y="773280"/>
            <a:ext cx="9144000" cy="12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MP ACCOMPLISHMEN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Content Placeholder 2"/>
          <p:cNvSpPr/>
          <p:nvPr/>
        </p:nvSpPr>
        <p:spPr>
          <a:xfrm>
            <a:off x="463680" y="1582560"/>
            <a:ext cx="8202600" cy="39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 National Height Modernization Plan (NHM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ing Height Modernization Guidelines, NGS 58 / NGS 5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rastructure gap (e.g. CORS)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nize NGS geodetic control datashe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le 1"/>
          <p:cNvSpPr/>
          <p:nvPr/>
        </p:nvSpPr>
        <p:spPr>
          <a:xfrm>
            <a:off x="0" y="773280"/>
            <a:ext cx="9144000" cy="8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MP FUTURE PLAN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25520" y="2563560"/>
            <a:ext cx="685800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5025960" y="4124160"/>
            <a:ext cx="391500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enee Shiel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eight Modernization Manag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01-713-3231, x1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nee.Shields@noaa.gov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question"/>
          <p:cNvPicPr/>
          <p:nvPr/>
        </p:nvPicPr>
        <p:blipFill>
          <a:blip r:embed="rId1"/>
          <a:stretch/>
        </p:blipFill>
        <p:spPr>
          <a:xfrm>
            <a:off x="1889280" y="2411280"/>
            <a:ext cx="1419120" cy="141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1T16:29:00Z</dcterms:created>
  <dc:creator>Christine.Gallagher</dc:creator>
  <dc:description/>
  <dc:language>en-US</dc:language>
  <cp:lastModifiedBy>Renee Shields</cp:lastModifiedBy>
  <dcterms:modified xsi:type="dcterms:W3CDTF">2011-10-12T18:56:19Z</dcterms:modified>
  <cp:revision>32</cp:revision>
  <dc:subject/>
  <dc:title>Slide 1</dc:title>
</cp:coreProperties>
</file>