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53D-B079-4D85-904D-FBE2660C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3A1-DBCA-4326-9C3C-800DF3E5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188-7F0A-4639-B15F-6FC6B884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4BC-0B1F-437C-AEFE-B9877BD9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086F-F13D-4F38-95DB-E722C1D2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F193-3B82-422B-A244-1E09B9E1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6211-4189-4FF6-A361-DF6AE986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C754-CEF2-4B19-B819-CACBE76C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F986-D9FC-4D8B-908B-CB68F28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BC1-3160-4A3C-BAD8-9727CF4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03A-A1E7-4B22-8CC8-3BAEFC3A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288-CBEC-4848-91BE-A260430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ABE-570C-423C-B572-88E8F8A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5239-8CD4-4FE3-8BF2-61C2AD78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E280-97C7-4CDC-8A49-B157FEFF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2718-BBC8-4EE6-91FA-C8880FD2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04F-3BF1-41D7-83E8-1A19ADFA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ED8-2E05-418C-AD2D-8AFF380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880-8AFE-4F27-8D83-31DE92C1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315-14B5-4A15-A92F-B485005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90E-3E2D-4435-B0F1-2939A099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D22-227B-45AE-AF36-3081F282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5D8-AFE0-465F-A128-A5B0243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44E-E581-493A-9E7B-777387B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CC83-0C4C-4C84-87A6-D970AD7E8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AC39-7F9E-47DA-8242-F606F948F0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ISION 8 - SURVEYING AND MAP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FFECTIVE JANUARY 1,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1, CALIFORNIA COORDINATE SYSTEM (Revis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2, TOPOGRAPHICAL MAPPING (No Chan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3, GEODETIC DATUMS AND THE CALIFORNIA SPATIAL REFERENCE NETWORK (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4, CALIFORNIA GEODETIC COORDINATES (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5, CALIFORNIA ORTHOMETRIC HEIGHTS (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1 California Coordinate System (Revi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etes incorrect references to “geodetic position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letes portions that are covered in the new Chapter 3, “Geodetic Datums and the California Spatial Reference Network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the number of required “reference” stations from two to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accuracy is claimed for the CCS values, requires specific information to be shown and docu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3 Geodetic Datums and the California Spatial Reference Network (N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NAD83 as the official datum for horizontal positions and ellipsoid he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NAVD88 as the official datum for orthometric heights (eleva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the California Spatial Reference Network (CSRN) as the official “control”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the requirements for stations included in the CSRN; similar to the provisions defining the California Spatial Reference System - Horizontal in the previous CCS stat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4 California Geodetic Coordinates (N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definitions and procedural requirements for certain geodetic surveys, similar to Chapter 1 (C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that positions conforming to the statutes may be identified as “California Geodetic Coordinates of 1983” (CGC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es the documentation required for CGC83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PTER 5 California Orthometric Heights (Ne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es definitions and procedural requirements for certain orthometric height surveys, similar to Chapter 1 (CCS) and Chapter 4 (CG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that orthometric height values conforming to the statutes may be identified as “California Orthometric Heights of 1988” (COH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es that the latest NGS “geoid model” shall be used when determining COH88 values from ellipsoid heights; permits the use of “local orthometric height correction”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es the documentation required for COH88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UBLIC RESOURCE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the new statutes is op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: Dick Davis (916) 227-73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rian_Davis@dot.c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05:43:32Z</dcterms:created>
  <dc:creator>Adrian D. Davis</dc:creator>
  <dc:description/>
  <dc:language>en-US</dc:language>
  <cp:lastModifiedBy>Adrian D. Davis</cp:lastModifiedBy>
  <dcterms:modified xsi:type="dcterms:W3CDTF">2006-01-31T14:29:19Z</dcterms:modified>
  <cp:revision>10</cp:revision>
  <dc:subject/>
  <dc:title>PUBLIC RESOURCES CODE</dc:title>
</cp:coreProperties>
</file>