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ct" ContentType="image/x-pict"/>
  <Override PartName="/ppt/media/image2.png" ContentType="image/png"/>
  <Override PartName="/ppt/media/image12.pct" ContentType="image/x-pict"/>
  <Override PartName="/ppt/media/image1.png" ContentType="image/png"/>
  <Override PartName="/ppt/media/image11.pct" ContentType="image/x-pict"/>
  <Override PartName="/ppt/media/image23.png" ContentType="image/png"/>
  <Override PartName="/ppt/media/image9.png" ContentType="image/png"/>
  <Override PartName="/ppt/media/image10.pct" ContentType="image/x-pict"/>
  <Override PartName="/ppt/media/image22.png" ContentType="image/png"/>
  <Override PartName="/ppt/media/image8.png" ContentType="image/png"/>
  <Override PartName="/ppt/media/image7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15.pct" ContentType="image/x-pict"/>
  <Override PartName="/ppt/media/image28.pct" ContentType="image/x-pict"/>
  <Override PartName="/ppt/media/image27.pct" ContentType="image/x-pict"/>
  <Override PartName="/ppt/media/image20.jpeg" ContentType="image/jpeg"/>
  <Override PartName="/ppt/media/image26.pct" ContentType="image/x-pict"/>
  <Override PartName="/ppt/media/image25.pct" ContentType="image/x-pict"/>
  <Override PartName="/ppt/media/image16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18.jpeg" ContentType="image/jpeg"/>
  <Override PartName="/ppt/media/image14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93D-F59D-4DE7-8FA6-91294B11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030-C9F1-4E7B-AC26-4251E2D8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4E6-C49B-493E-9759-5B6479D6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C99-C8B5-4D31-8465-40FE44D4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B992-F226-419F-82F2-E2D3059A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B336-E56B-4480-8EE7-A842E238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6275-5639-4223-8473-F8071DDE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2187-F308-4AB3-8100-057C43A9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B47C-2AEA-4E6A-8644-61050A22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ECCB-519D-48E2-A9F3-F3E752A4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FFD8-2A42-44BE-B7C0-32C77663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6D7-98A3-488B-AF01-2583D719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C076-A946-4D04-9D50-942182B7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D6E8-F148-470C-B013-CD5499AC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C1D2-8573-48BA-8205-401138E3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0DD7-03D5-4F6F-AE31-71CF7AE9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CD99-11A9-47DA-8A83-A66D6481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FFF-4D3B-45BB-949D-68F168FD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51F-61CB-499E-9C7A-375C264A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DD1-9711-491B-A620-5156A255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9E1-EC9A-4939-B2C8-ED0E927E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F50-74A8-4254-A3C3-E24F6613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9BE-373D-48F1-9BF7-BD520CCF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742-5D27-4383-B769-9291D816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BE8D-00F0-404A-9468-8694AE6F0E03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0B16-75B9-45A5-927F-42C1DC0F83C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1660-4D3C-4F1B-8DC8-9507CA6836F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B114-7181-40D0-B934-2754A8ACF372}" type="slidenum">
              <a:rPr b="1" lang="en-US" sz="3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image" Target="../media/image13.pct"/><Relationship Id="rId7" Type="http://schemas.openxmlformats.org/officeDocument/2006/relationships/image" Target="../media/image14.png"/><Relationship Id="rId8" Type="http://schemas.openxmlformats.org/officeDocument/2006/relationships/image" Target="../media/image15.pct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 Time GPS in Los Ange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Keith F. Stark</a:t>
            </a:r>
            <a:endParaRPr b="0" lang="en-US" sz="2400" spc="-1" strike="noStrike">
              <a:solidFill>
                <a:srgbClr val="3399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SCIGN Network Coordinator</a:t>
            </a:r>
            <a:endParaRPr b="0" lang="en-US" sz="2400" spc="-1" strike="noStrike">
              <a:solidFill>
                <a:srgbClr val="3399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Stark Consulting, LLC</a:t>
            </a:r>
            <a:endParaRPr b="0" lang="en-US" sz="24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804B-D905-424B-80F8-03C07902119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433E340-9E6D-4394-A706-398E0B7D8C7C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881600" cy="3660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4113000" cy="5484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50080" y="91440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ysian Pa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990720"/>
            <a:ext cx="900000" cy="485640"/>
          </a:xfrm>
          <a:prstGeom prst="rightArrow">
            <a:avLst>
              <a:gd name="adj1" fmla="val 50000"/>
              <a:gd name="adj2" fmla="val 4633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5486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gos Mount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0C1-49FD-4B13-837F-163568722C1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8A74A-47A3-44B6-9640-8ECF7D5979D6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 Time in Los Ange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8960" y="26668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Real Time GPS data into USGS earthquak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public access to Real Time Data Streams from SCIGN Sites in Los Angeles City and County for an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City and County surveyors with always on RTK base 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93C-E067-4F43-B7C8-18D1B486DE2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A5D6C-469E-4095-AA39-47848D690BCB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 Time/High Rate in 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2 samples per second on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 data for 2 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rieve data if an earthquake happ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 1 sps or 2 second data to US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E4A-DAA8-4415-AFB1-D900111F0D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6B7B7-C496-4B86-BE62-4A8DD68C30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36840" y="1219320"/>
            <a:ext cx="660384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D79-436C-4318-B256-9B10ED290EDC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31B2E-E0D7-48EA-A442-2774A1209C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36840" y="1219320"/>
            <a:ext cx="660384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F4C-0A05-4600-8B43-2DEEE201E789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9691B-1E06-4FA5-A712-B9A5DD30E7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4920" y="1219320"/>
            <a:ext cx="7086600" cy="4952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320" y="149400"/>
            <a:ext cx="8940600" cy="655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8D0-C6B9-4EF4-9E69-7BC7BD9C20DE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80532-57CD-4784-A3AF-61E30798DC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to Upgrade a GPS Si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sit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y for network conn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high rat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 real time data to US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35A-14FD-442C-9DD6-21C9D0B358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08156-7655-436B-9DFB-603DA1F164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 Time Server at US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Ntrip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for multiple clients simultane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with an Ntrip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as a raw TCP/IP 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ilar to Orange County configu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356-7CDC-474B-8B54-0CFA5A3809D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F1A46-DA17-4520-B07D-76F10E7ECF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ta is avail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w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sample per second Ashtech DBEN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sample per second BINEX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T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sample per second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er will be configured to rebroadcast any available real time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DD8-2319-47FF-A722-AE1971D19E0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59F80-1AC1-400E-AA22-B5F877E5A6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5520" y="0"/>
            <a:ext cx="8826480" cy="69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FE7-4A1F-4CF1-AC57-D81F33FE4B42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8141A-0150-4180-A76D-60399E05CF46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usgs_logo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1600200" cy="641520"/>
          </a:xfrm>
          <a:prstGeom prst="rect">
            <a:avLst/>
          </a:prstGeom>
          <a:ln w="0">
            <a:noFill/>
          </a:ln>
        </p:spPr>
      </p:pic>
      <p:pic>
        <p:nvPicPr>
          <p:cNvPr id="123" name="IGPP_revlogo" descr=""/>
          <p:cNvPicPr/>
          <p:nvPr/>
        </p:nvPicPr>
        <p:blipFill>
          <a:blip r:embed="rId2"/>
          <a:stretch/>
        </p:blipFill>
        <p:spPr>
          <a:xfrm>
            <a:off x="1752480" y="3290760"/>
            <a:ext cx="1295640" cy="968400"/>
          </a:xfrm>
          <a:prstGeom prst="rect">
            <a:avLst/>
          </a:prstGeom>
          <a:ln w="0">
            <a:noFill/>
          </a:ln>
        </p:spPr>
      </p:pic>
      <p:pic>
        <p:nvPicPr>
          <p:cNvPr id="124" name="jpl" descr=""/>
          <p:cNvPicPr/>
          <p:nvPr/>
        </p:nvPicPr>
        <p:blipFill>
          <a:blip r:embed="rId3"/>
          <a:stretch/>
        </p:blipFill>
        <p:spPr>
          <a:xfrm>
            <a:off x="1638360" y="4603680"/>
            <a:ext cx="1523880" cy="443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rcRect l="11869" t="12864" r="10887" b="20024"/>
          <a:stretch/>
        </p:blipFill>
        <p:spPr>
          <a:xfrm>
            <a:off x="4334040" y="527364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126" name="usgs_logo" descr=""/>
          <p:cNvPicPr/>
          <p:nvPr/>
        </p:nvPicPr>
        <p:blipFill>
          <a:blip r:embed="rId5"/>
          <a:stretch/>
        </p:blipFill>
        <p:spPr>
          <a:xfrm>
            <a:off x="6824520" y="5335560"/>
            <a:ext cx="1600200" cy="641520"/>
          </a:xfrm>
          <a:prstGeom prst="rect">
            <a:avLst/>
          </a:prstGeom>
          <a:ln w="0">
            <a:noFill/>
          </a:ln>
        </p:spPr>
      </p:pic>
      <p:pic>
        <p:nvPicPr>
          <p:cNvPr id="127" name="keck" descr=""/>
          <p:cNvPicPr/>
          <p:nvPr/>
        </p:nvPicPr>
        <p:blipFill>
          <a:blip r:embed="rId6"/>
          <a:stretch/>
        </p:blipFill>
        <p:spPr>
          <a:xfrm>
            <a:off x="7010280" y="2057400"/>
            <a:ext cx="1227240" cy="1023840"/>
          </a:xfrm>
          <a:prstGeom prst="rect">
            <a:avLst/>
          </a:prstGeom>
          <a:ln w="0">
            <a:noFill/>
          </a:ln>
        </p:spPr>
      </p:pic>
      <p:pic>
        <p:nvPicPr>
          <p:cNvPr id="128" name="NASAlogo" descr=""/>
          <p:cNvPicPr/>
          <p:nvPr/>
        </p:nvPicPr>
        <p:blipFill>
          <a:blip r:embed="rId7"/>
          <a:stretch/>
        </p:blipFill>
        <p:spPr>
          <a:xfrm>
            <a:off x="7196040" y="3309840"/>
            <a:ext cx="857520" cy="743040"/>
          </a:xfrm>
          <a:prstGeom prst="rect">
            <a:avLst/>
          </a:prstGeom>
          <a:ln w="0">
            <a:noFill/>
          </a:ln>
        </p:spPr>
      </p:pic>
      <p:pic>
        <p:nvPicPr>
          <p:cNvPr id="129" name="nsf_logo" descr=""/>
          <p:cNvPicPr/>
          <p:nvPr/>
        </p:nvPicPr>
        <p:blipFill>
          <a:blip r:embed="rId8"/>
          <a:stretch/>
        </p:blipFill>
        <p:spPr>
          <a:xfrm>
            <a:off x="7205760" y="4268880"/>
            <a:ext cx="8380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3886200" y="1295280"/>
            <a:ext cx="2419200" cy="3429000"/>
            <a:chOff x="3886200" y="1295280"/>
            <a:chExt cx="2419200" cy="3429000"/>
          </a:xfrm>
        </p:grpSpPr>
        <p:pic>
          <p:nvPicPr>
            <p:cNvPr id="131" name="ScignBanner1" descr=""/>
            <p:cNvPicPr/>
            <p:nvPr/>
          </p:nvPicPr>
          <p:blipFill>
            <a:blip r:embed="rId9"/>
            <a:stretch/>
          </p:blipFill>
          <p:spPr>
            <a:xfrm>
              <a:off x="3900240" y="4066920"/>
              <a:ext cx="239112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adp_dome_assy" descr=""/>
            <p:cNvPicPr/>
            <p:nvPr/>
          </p:nvPicPr>
          <p:blipFill>
            <a:blip r:embed="rId10"/>
            <a:stretch/>
          </p:blipFill>
          <p:spPr>
            <a:xfrm>
              <a:off x="3886200" y="1295280"/>
              <a:ext cx="2419200" cy="26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6781680" y="1295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d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1371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14D-A7DD-4C04-B6E1-60A9F65BDC1D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B2E6A-4B7B-41F8-9624-190CDCB01C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9920" y="1143000"/>
            <a:ext cx="469404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280-D904-4275-9C43-72806A0927B6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16798-0D46-47B6-8D25-FF4710AF1E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2000" y="1219320"/>
            <a:ext cx="467352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83E-D62A-429D-9645-DC1505A8A6D9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0FBBA-15B3-41B3-8DD1-395DCC9D0E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27200" y="1219320"/>
            <a:ext cx="462132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229-2C36-446E-9C4E-7BC6B7AC9947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D3B59-C971-4AEE-9B0B-5AE5F0A6D2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2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ish equipment purc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ish real time server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4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l equipment and test network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high rate data collection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test data streams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C5E-2686-45D1-9444-BA159B06D45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18141-9706-4E60-9D5A-E7F381E86D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hedule (Con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6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test real time data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on data streams from all upgraded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upgrading sites as funds ar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B94-D217-4120-90C0-03A90492D06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E75F1-C848-4B4E-9BAD-9DB8ED4A0C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icipating Agen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300996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usgs_logo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1600200" cy="641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rcRect l="11869" t="12864" r="10887" b="20024"/>
          <a:stretch/>
        </p:blipFill>
        <p:spPr>
          <a:xfrm>
            <a:off x="6477120" y="2209680"/>
            <a:ext cx="1295280" cy="78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819520" y="5334120"/>
            <a:ext cx="3568680" cy="77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572000" y="3200400"/>
            <a:ext cx="901800" cy="965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791320" y="3429000"/>
            <a:ext cx="2082600" cy="698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2133720" y="2286000"/>
            <a:ext cx="198108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2286000" y="4267080"/>
            <a:ext cx="4419720" cy="97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CEC-6E65-4D4D-918A-3973B29BED6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A9A7C-5340-4177-A127-D31E2A880B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9600" cy="398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0E9-863E-4BB3-8405-44390E287DAD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00397-48FF-41AB-AE03-0115C4B55A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9600" cy="398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-152280" y="135000"/>
            <a:ext cx="9543960" cy="67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AAA-9527-45B7-A5EC-11C69E8B9CD0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66433-1919-454B-940F-E0F2C9B9DF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SCIGN Oper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is retrieved every 4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infrastructure cannot be used for Real Time data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with site hosts to up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loying specialized hardware for high rate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047-355C-4758-B595-9FB7D30395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225BD-5DF4-46C8-8669-1D0C1B8EFF36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amples per second (s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ed at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processed at lat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latency data disse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sample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processed for immediate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61400" y="1905120"/>
            <a:ext cx="24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9760" y="190512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gh R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3C8-8856-46BF-B8CF-09FC3ACBC6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874F8-3E16-4C76-8686-CF80CC4E2A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257800" cy="3946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8520" y="1031760"/>
            <a:ext cx="277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lip Sens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FC0-DA8D-49CF-B8C2-61A42434B16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31CE1-6B7D-4FA2-8519-4C2364587846}" type="datetime1">
              <a:rPr lang="en-US"/>
              <a:t>07/29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19320" y="2362320"/>
            <a:ext cx="7391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Kilomete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e Juniper Ra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zier Park High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me Relay connection shared with Seismic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bandwidth constra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lent rel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ion of 10 sample per second data loc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imitations allow for streaming of 3 second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7800" y="1219320"/>
            <a:ext cx="277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lip Sens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F24-1869-4877-AE1F-22747849C8F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C11D8-BF49-4213-9DD1-14EAFEA1AE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Trial User</cp:lastModifiedBy>
  <cp:lastPrinted>1904-01-01T00:00:00Z</cp:lastPrinted>
  <dcterms:modified xsi:type="dcterms:W3CDTF">2005-02-04T21:13:24Z</dcterms:modified>
  <cp:revision>11</cp:revision>
  <dc:subject/>
  <dc:title>Recommending a Strategy</dc:title>
</cp:coreProperties>
</file>