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E46-3258-41D1-A4BF-A5B53CE9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508-107A-4048-82DD-82DEFE78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4CA-26C5-4B47-9B09-4AAD2664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F8B-7A00-4BB7-B717-7518FC6A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0184-D8D7-4C06-9996-B2B7DA98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EDCE-4B4F-4B49-AF67-4E98D6A2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BC8B-C64B-4FC2-AC73-982FB9E9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0068-5216-44FE-83C8-C668EBD8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4750-B1BA-4CDC-B801-DB3ECD93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3824-2075-47BA-A00B-46FC6649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9E4F-62F4-4BE6-9CEA-C023545C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B89-755D-4515-9742-6B3E4A08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22C6-95F4-46AB-BC02-A72F89F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F904-0BD7-4069-AF83-14F5C20B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3426-F6E5-4505-B9BA-640C233E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CAF0-852B-48C9-A67D-E1AA77E6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E7A2-D992-465B-9388-0AD5A268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774-4D2F-4DB8-B9F8-23E33F1C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EBB-7DC8-4666-B7E8-D49D152E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E1C-CC22-4B17-BBA7-4F2A8A4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DE8-4A08-426B-BF52-E2AED5B7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A89-8146-47F4-9011-C14B33E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C01-0EA3-4C11-ADBE-F707D0E1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17E-D4CA-4FB9-878C-EBC31D3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970C-C7F6-4AE7-A742-83414BDC2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F740-4945-47CA-BCEA-EC56549FD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st Bay RTK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2840" y="4123800"/>
            <a:ext cx="624852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uncan Marshal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ast Bay Regional Park Distric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510-544-237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Questions 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! Comments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00120" y="2437920"/>
            <a:ext cx="74916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569-506C-4210-838A-EF6B647298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nk You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uncan Marshal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ast Bay Regional Park Distri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rvey Support Sec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2950 Peralta Oaks Cour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akland, CA 94605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510-544-2374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marshall@ebparks.or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D6D-6234-4CEE-A7F7-2C098CA5F4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USGS_gps" descr=""/>
          <p:cNvPicPr/>
          <p:nvPr/>
        </p:nvPicPr>
        <p:blipFill>
          <a:blip r:embed="rId1"/>
          <a:stretch/>
        </p:blipFill>
        <p:spPr>
          <a:xfrm>
            <a:off x="1095480" y="90360"/>
            <a:ext cx="8089920" cy="635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B77-5104-4979-A6DA-D718810884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066320"/>
            <a:ext cx="749160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December 2003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UNAVCO speaks at Northern Calif. GPS Users Group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11 Park sites will work geographically in Alameda and Contra Costa Counties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ites chosen for their sky view for GPS and elevation for radio transmission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January - September 2004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Negotiations and site visits to set up and sign license for 10 sites in one agreement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10 slated for installation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B06-C24C-409A-8472-5411D4E166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os -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1066320"/>
            <a:ext cx="749160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Radio Type and FCC license issues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Type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Trimble radios with 5 mile radius limitation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Does not cover all of Park District from these sites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Deep valleys with no reception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ould use repeater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FCC License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No local government frequencies available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District license in supervisors name - 13 channels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D92-0479-436B-AD27-1668852C61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os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066320"/>
            <a:ext cx="749160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ype – 2.4gHz?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Want - 24/7 Broadcast Time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To limit access to UNAVCO sites – less people, better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ave time not having to drive to GPS site to set up radio, public will want to use their radios at these sites – coordination!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Allows best use of information by everyone if always available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CC License – Remove from Equ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2.4gHz does not need license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Line of sight to radio tower (Park District, County, Public Utility)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oordination for radio tower installation at these sites, each with a computer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Need selling points for Police, Fire and other dept.’s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RTK correction signal sent out over internet via cell phone modem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DED-D1AA-4FC5-A421-EB6E69F4C5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Surface, On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066320"/>
            <a:ext cx="749160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onnect All (Some?) Stations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onnect all GPS sites to one central computer to develop one surface for all of Alameda and Contra Costa Counties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RTK correction signal to be sent from each UNAVCO site over 2.4gHz radio antenna aimed at a municipal radio tower. Signal received and sent over the internet to a central hub where it is processed with other sites and sent back out to cell phone modems for real time RTK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Different solution than Orange Co. – Single line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Room to spread to other adjoining counties for a better solution?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Free to the public, just sign up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FE1-DDD9-430B-9690-8D1F712A90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USGS_gps" descr=""/>
          <p:cNvPicPr/>
          <p:nvPr/>
        </p:nvPicPr>
        <p:blipFill>
          <a:blip r:embed="rId1"/>
          <a:stretch/>
        </p:blipFill>
        <p:spPr>
          <a:xfrm>
            <a:off x="1095480" y="90360"/>
            <a:ext cx="8089920" cy="635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D1F-758D-4327-BB9C-3EAEE105500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Have worked up and down the hierarchy in the Park District  to get sites approved with Environmental Impact Review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igned agreement with UNAVCO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ites to be installed “soon”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upport from other agencies in terms of money, equipment and man- hours to develop this “One Surface” system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F0C-B045-470D-A7DB-84FDA811E9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0120" y="1066320"/>
            <a:ext cx="749160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et up new radios at UNAVCO sites: Cost: $5,000± per site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New post, solar cells, antenna, batteries and radio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Coordinate and get permission to use existing radio towers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et up new antennas at municipal radio tower arrays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New antenna, wire, computer and internet access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Set up central computer hub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(U.C. Berkeley? East Bay Regional Park District?)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New computer, software and internet access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ast Bay RTK Networ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205-21DD-4554-928A-8D5F09BABA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2/04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BRPD</cp:lastModifiedBy>
  <dcterms:modified xsi:type="dcterms:W3CDTF">2005-02-02T22:15:29Z</dcterms:modified>
  <cp:revision>31</cp:revision>
  <dc:subject/>
  <dc:title>PowerPoint Presentation</dc:title>
</cp:coreProperties>
</file>