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393-1ACA-4708-A38E-87794848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E82-F8DF-4277-80FE-3329CFD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1CB-863B-49CE-A024-EC6EE1D9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5FB-3C06-4DC2-B260-A426DE73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F82-8E7B-459A-8E35-B59D620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0FA-1D11-4FAB-8C4E-6741BB69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00D-8F5F-43B8-9875-DD92931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0A1-CE6D-4D40-9496-A5DCB5F9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1DA-55B3-4477-802E-EFFCCE5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74F-A707-4F88-8AB0-0B759A92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298-C364-4D7C-9FBF-F377FD7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C6C-33C8-4401-91FB-65A2B63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3FD-08B5-4A95-AFE7-CCACFA10A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src.ucsd.edu/projects/pgm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cket GPS Manager (PG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rief Overview &amp; Current Statu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-10-20 CSRC Semi Annu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Jolla,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ael Scharber (CSR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027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M Client is a Jav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 desktops and PDAs) which, combined with the existence of a metadat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argets the elimination of paper “log sheets” from GPS campaigns, and provides a centrally-coordinated metadata context from which to plan, log and manage the “field” component of a GPS campa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7A4-C511-4D47-962E-63DB90B65E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GM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13400" cy="471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1A1-81E3-4A92-A79C-90B53A2C58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 planning and reconna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 setup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GM Cli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 executio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GM Cli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chnicia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 quality control, reobservations, wrapup,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GM Cli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r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chnicia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 analysis using software of choice and metadata format of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of XML geodetic campaign template to an NGS B-File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t2bb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S project submission preparation, B-File completion, D-File generation, etc – using existing NG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S project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GM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43400" y="5714280"/>
            <a:ext cx="3124080" cy="685800"/>
          </a:xfrm>
          <a:custGeom>
            <a:avLst/>
            <a:gdLst/>
            <a:ahLst/>
            <a:rect l="l" t="t" r="r" b="b"/>
            <a:pathLst>
              <a:path w="1920" h="1">
                <a:moveTo>
                  <a:pt x="0" y="1"/>
                </a:moveTo>
                <a:lnTo>
                  <a:pt x="291" y="0"/>
                </a:lnTo>
                <a:lnTo>
                  <a:pt x="1920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05720" y="55227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034-25E7-4236-BEC0-B500AF770D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eta version of PGM Client was successfully used in production for the Yolo County, CA resurvey in July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-line executable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ct2bb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s being developed by the CSRC (Mike Potterfield) to enable a complete (or piecewise) conversion of a geodetic campaign template (XML) used by PGM Client directly to an NGS B-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tailed handbook for PGM Client and the PGM strategy is in the final stages of revision and will be made public shortly, along with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M Client is being used, or evaluated, for other campaigns in California and Arizo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768-9404-4EA8-AC48-C94878D30D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src.ucsd.edu/projects/pgm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M discussion foru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M Client handboo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M present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ing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 status p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PGM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BA9-B260-4E08-BC30-B4A7733B48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M Client - Screensh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208116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689200" y="1219320"/>
            <a:ext cx="249228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305240" y="1219320"/>
            <a:ext cx="2857680" cy="299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553080" y="1219320"/>
            <a:ext cx="2500560" cy="2781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6320" y="342900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1600200" y="342900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2819520" y="3429000"/>
            <a:ext cx="2081160" cy="275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114800" y="3429000"/>
            <a:ext cx="2103480" cy="2751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638680" y="3809880"/>
            <a:ext cx="3238560" cy="2454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2209680" y="2438280"/>
            <a:ext cx="4587840" cy="27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12B-F52B-4166-93F3-CE664A0533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ch Needed Future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M Server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-packaged repository* supporting real-time Client&lt;-&gt;Server communications with multiple PGM Clients simultaneously, using web-based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A plat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ify further PDA platforms for PGM compatibility (currently only HP iPaq with Windows CE and Siemens mobile with Pocket P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database schema, XML parsing libraries, web services and server-side scripts for coordinating the vetting of information submitted by managers and technicians, asynchronously, with high-reliability.  Currently, PGM Client is NOT specific to the CSRC, but the repository services it depends on has only been implemented by the CSRC.  Would like to make a generic, out-of-the-box repository component to PGM (ak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GM 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74640" cy="11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CSD / SIO / CSR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B9F-724A-4E56-AE44-7966FCE042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5-10-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cket GPS Manager (PG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66680" y="5409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0277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Scharber</cp:lastModifiedBy>
  <dcterms:modified xsi:type="dcterms:W3CDTF">2005-10-28T20:26:46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